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45622"/>
        <c:axId val="37088763"/>
      </c:barChart>
      <c:catAx>
        <c:axId val="73045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88763"/>
        <c:crosses val="autoZero"/>
        <c:auto val="1"/>
        <c:lblAlgn val="ctr"/>
        <c:lblOffset val="100"/>
        <c:noMultiLvlLbl val="0"/>
      </c:catAx>
      <c:valAx>
        <c:axId val="37088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45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B5C-C99B-48CC-BEF3-3E4C8E43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B15-3F0A-4304-ABE2-5B1EBA47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371-E290-4196-B3E3-8EACDCC2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F9D-F903-4C18-A2BB-D509B684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AAF-063A-466B-BC41-2EBED41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6B4-4C38-4E55-AC75-F19CB2A2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A76-856B-4009-B195-8855647C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7D7-4F51-455C-8447-3075FC57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7D4-1F71-4853-8946-B089A834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86C-FC1F-489F-9342-F776356B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F88-D6EC-46FC-A620-C30652C3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42E-7F5C-457B-BF4E-CD183E40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A081E-226A-457B-82AD-6965ACAD25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